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B59-AADE-4554-AFF2-8E5E1AA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F1F-8D75-4A69-8388-008BA285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12C-6F36-47CD-8C8A-2C8B13A4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9CF-2F7C-4FD1-89D0-F89968B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F60C-FD86-40A5-AE03-15F30D1A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C546-6188-4E17-A1A6-0DC39E4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494B-8498-48C7-BB32-4FCFCBF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5E1-B75E-40A2-AA33-487323E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DC7-7961-41D2-BD55-031DAD5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F96D-B398-4805-9235-D89D853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E70-15A9-477A-ACB2-100829A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93A-8FA0-429E-840B-B79A3AC5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B36-4231-4E61-84EC-ABA5E1B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531D-EBE0-4822-AB1E-4FC6EF7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F0F9-299B-4F8F-9322-8861240E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9D92-021C-45B6-A3A6-37BB95F7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EE61-29C7-44B2-877F-4DAFE27E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6E6-ED8A-4064-A6BB-F996A5F0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275-D5AE-4A22-9530-2A64DA6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AA0-DAAF-41DB-9AD4-6FC2D2C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3A9-F7BA-41B3-9CD4-F0C339C8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AB7-4E76-4B5E-A5F5-5552271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A26-FB04-4218-85FB-1AC350F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048-9365-4859-9306-AB5D03B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591D-58BA-4721-A4E0-7151ABFB26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3760"/>
              <a:chOff x="-3240" y="2479680"/>
              <a:chExt cx="9146880" cy="10137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080"/>
                <a:ext cx="9892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840" y="278424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880" y="275004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320" y="2696040"/>
                <a:ext cx="9892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000" y="2742480"/>
                <a:ext cx="10018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4060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800" y="2776320"/>
                <a:ext cx="9892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9680" y="274212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000" y="2690280"/>
                <a:ext cx="9889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840" y="2730600"/>
                <a:ext cx="10018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960" y="277632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7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3160" y="2690280"/>
                <a:ext cx="9889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000" y="2730600"/>
                <a:ext cx="10018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A47-9EC6-411F-9375-1CB7D9F166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LAS NUEVAS TECNOLOGÍAS EN INVESTIGACIÓN DEL MEDIO AMBIENTE</a:t>
            </a:r>
            <a:br>
              <a:rPr sz="7200"/>
            </a:b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Funciones que realiza un SI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ptura de datos: datos numéricos y cartograf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gestión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ración de docum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espacial. Función más característ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8" descr=""/>
          <p:cNvPicPr/>
          <p:nvPr/>
        </p:nvPicPr>
        <p:blipFill>
          <a:blip r:embed="rId1"/>
          <a:stretch/>
        </p:blipFill>
        <p:spPr>
          <a:xfrm>
            <a:off x="685800" y="214200"/>
            <a:ext cx="8458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Utilización de los SI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ursos naturales: inventariado, distribución, tendencias en su explotac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ividades antrópicas e impacto ambiental derivado (E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iesgos naturales: cartografía, predicción y prev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ificación de ecosistemas o bi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G GEOLO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6429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177588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Sistemas telemétric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6676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lemetría: conjunto de técnicas que permiten facilitar la transmisión de datos de diversa naturaleza utilizando diferentes medios : fibra óptica, vía satélite, telefon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s tipos: 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teledetección y posi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SISTEMAS DE TELEDETE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cción remota a través de sen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edetección: técnica que permite la observación a distancia y la obtención de imágenes de la superficie desde sensores en aviones o satél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7324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la teledetección se obtienen datos de gran utilidad práctica, y en el aspecto medioambienta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stituyen la base para la confección de cartografías temáticas, inventarios de recursos naturales y evaluación de los riesgos e impa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OMPONENTES DE UN SISTEMA DE TELEDET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SENSOR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ámaras situadas en aviones o satélites (+800k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función de la ENERGÍA DETECTAD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fuente de emis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s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pta energía externo al sensor, del sol o emitida por elementos terres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mite energía y capta el reflejo producido por la superficie terr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CENTRO DE RECEP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transmite información digital a la tierra. Se corrige imperfecciones y se destacan algunos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SISTEMA DE DISTRIBUCIÓN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canismos de la teledete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4046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Órbitas de los satél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eoestacionaria: El satélite está situado a gran altitud, siempre sobre el mismo punto, moviéndose de forma sincronizada con la rotación de l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Órbita polar: El satélite rota de forma circular pasando por los polos a baja a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5219640" y="2744640"/>
            <a:ext cx="39243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ADIACIONES ELECTROMAGNÉ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tmósfera es un filtro para las radi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ólo se utilizan aquellas radiacione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aviesan la atmósfera 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entanas atmosf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71640" y="3429000"/>
            <a:ext cx="81723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Times New Roman"/>
              </a:rPr>
              <a:t>SISTEMAS INFORMÁTICOS Y SIMULACIÓN MEDIOAMBIENT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6927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grandes problemas de información medioambiental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ingente cantidad datos, que precisa una monitorización  y adquisición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gran heterogeneidad, ya que incluyen variables de todo tipo, a lo que se suman proyectos , legislaciones, program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localización dispersa, tanto en tiempo como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58560" y="4508280"/>
            <a:ext cx="67690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Un  EIS es, por tanto, un conjunto de mecanismos y procesos mediante los que se recopila y jerarquiza la información ambiental, procesándola convenientemente y transmitiéndola al usuario para su 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IMÁGENES DE TELEDETE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40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as imágenes: Están divididas en pequeños recuadros (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ixel)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es la superficie mínima detectada. Tiene asociado un valor, cifra o dígi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olución de un sensor: Es la medida de su capacidad para discriminar los detal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Resolución espacial. Tamaño del píxel y representa el área menor que puede distinguirse de su ento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14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drid"/>
          <p:cNvPicPr/>
          <p:nvPr/>
        </p:nvPicPr>
        <p:blipFill>
          <a:blip r:embed="rId1"/>
          <a:stretch/>
        </p:blipFill>
        <p:spPr>
          <a:xfrm>
            <a:off x="1954080" y="-533520"/>
            <a:ext cx="543744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25992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agen radar del Envisat del derrame de crudo del 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Ex_envisat_021117_1045"/>
          <p:cNvPicPr/>
          <p:nvPr/>
        </p:nvPicPr>
        <p:blipFill>
          <a:blip r:embed="rId1"/>
          <a:stretch/>
        </p:blipFill>
        <p:spPr>
          <a:xfrm>
            <a:off x="2050920" y="1484280"/>
            <a:ext cx="6193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324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rsos naturales e impactos ambientales (cultivos, bosques, erosión, incendios, contaminación agua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tografía geológica (Relieve, recursos naturale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ación territorial (redes viarias, núcleos de población, desarrollo urbanístic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tilización de satél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it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entíficos (Image, Soh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eorológicos (Meteos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oambientales (Landsat, Envisat, Er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mágenes del ENVIS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735200" y="1981080"/>
            <a:ext cx="268596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173560" y="19810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716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ágenes estereoscópicas: son dos imágenes realizadas del mismo punto, desde diferentes puntos. Se ve una imagen tridimensio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posición de imagen"/>
          <p:cNvSpPr/>
          <p:nvPr/>
        </p:nvSpPr>
        <p:spPr>
          <a:xfrm>
            <a:off x="1214280" y="-928800"/>
            <a:ext cx="54864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1714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osicionamiento y naveg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66760" y="3571560"/>
            <a:ext cx="64008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satélites de navegación tienen la finalidad básica de determinar con la mayor exactitud posible, la localización de un receptor en la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GPS :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 de posicionamiento glob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formado por unos aparatos que nos permiten conocer nuestra posición exacta sobre la superficie terrestre, gracias a la triangulación de las señales emitidas por satél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INTRO02"/>
          <p:cNvPicPr/>
          <p:nvPr/>
        </p:nvPicPr>
        <p:blipFill>
          <a:blip r:embed="rId1"/>
          <a:stretch/>
        </p:blipFill>
        <p:spPr>
          <a:xfrm>
            <a:off x="4343400" y="2057400"/>
            <a:ext cx="4800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Naturaleza de la información medioambien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medioambiental se concreta,  básicamente, en tr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edioambientales: cualquier tipo de entidad física del planeta (rios, bosqu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t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objetos medioambientales: atributos físicos, químicos y matemáticos que describen los objetos medioambi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da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mbientales: información que localiza, reúne, organiza, clasifica y jerarquiza los objetos medioambientales Ej. Organismo que los estu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istemas G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tres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PS (Sistema de posicionamiento estan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PS (Sistema de posicionamiento preciso). Uso mili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PGS (GPS diferencial). Carret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de los G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áfico aé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flotas de vehículos terre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vegación marí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antamientos top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ización de bancos de pesca o recursos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aplicación de fitosanitarios y fertiliz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7324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ización, búsqueda y res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imiento de iceber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submar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aboración y actualización de cart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ón de espacios proteg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marcación de zonas que han sufrido impacto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tografía de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faunísticos, botánicos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áginas WEB interes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208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Nacional de Meteorologí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web/infmet/satel/meteo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web/infmet/radar/rada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ágina de búsqueda imágenes de cualquier lugar del mu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earth.googl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encia europea del medio amb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eea.eu.int/main_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Geográfic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fomento.es/MFOM/LANG_CASTELLANO/DIRECCIONES_GENERALES/INSTITUTO_GEOGRAFICO/Teledeteccion/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pági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recursos.gabrielortiz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allmetsa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landsa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17440" y="600120"/>
            <a:ext cx="6907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1654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Sistemas telemátic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modelado ambi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14292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a telem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7324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 básico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lazar cualquier información que se encuentre en una red informática y permitir la comunicación a nivel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sistema telemático compren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equipos infor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fuente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istemas de comunicación que enlazan los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n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er datos medioambientales y meta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poner de bibliotecas vir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eder a instituciones pública, organizaciones gubernamentales y no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poner de proyectos, cartografía, tesis….medio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ogramas mas import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nivel mundial: GOSIC, U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nivel Europeo: CORINE, EEA,I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857160" y="3143160"/>
            <a:ext cx="43578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los programas que recopilan, organizan y difunden información ambiental est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 Vigilancia Ambiental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T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I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M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la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Red EIONET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paña: la información medioambiental de nuestro país se centraliza en el Ministerio de Medio Ambiente, a través del Sistema de Información Globlal del Medio Ambiente (SIGMA), el Sistema Español de Indicadores Ambientales y sus bases de datos y fo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istemas telemáticos apoyados en la teledete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 ( sistemas de información geográfica)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programas informáticos que contienen una gran cantidad de datos de una zona organizados en cap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 de datos con información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gestionar fácilmente toda la información sobre un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5767560" y="1447920"/>
            <a:ext cx="3178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14800" y="1285920"/>
            <a:ext cx="4143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Componentes de un SI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junto de variables tomadas por observación y medición. Pueden ser geográficos (posición, dimensiones, formas…) o atributos (describen sus propiedad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informático de gestión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generación de informes alfanuméricos (listados, gráficas, fichas…) y cartograf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finición de SIG</a:t>
            </a:r>
            <a:r>
              <a:rPr b="0" lang="es-ES_tradnl" sz="2800" spc="-1" strike="noStrike" u="sng">
                <a:solidFill>
                  <a:srgbClr val="ffff23"/>
                </a:solidFill>
                <a:uFillTx/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838080" y="304920"/>
            <a:ext cx="7391520" cy="358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8"/>
          <p:cNvSpPr/>
          <p:nvPr/>
        </p:nvSpPr>
        <p:spPr>
          <a:xfrm>
            <a:off x="3048120" y="2743200"/>
            <a:ext cx="3047760" cy="2743200"/>
          </a:xfrm>
          <a:custGeom>
            <a:avLst/>
            <a:gdLst/>
            <a:ahLst/>
            <a:rect l="l" t="t" r="r" b="b"/>
            <a:pathLst>
              <a:path w="3048000" h="2743200">
                <a:moveTo>
                  <a:pt x="3" y="1047806"/>
                </a:moveTo>
                <a:lnTo>
                  <a:pt x="1164239" y="1047814"/>
                </a:lnTo>
                <a:lnTo>
                  <a:pt x="1524000" y="0"/>
                </a:lnTo>
                <a:lnTo>
                  <a:pt x="1883761" y="1047814"/>
                </a:lnTo>
                <a:lnTo>
                  <a:pt x="3047997" y="1047806"/>
                </a:lnTo>
                <a:lnTo>
                  <a:pt x="2106106" y="1695384"/>
                </a:lnTo>
                <a:lnTo>
                  <a:pt x="2465882" y="2743193"/>
                </a:lnTo>
                <a:lnTo>
                  <a:pt x="1524000" y="2095604"/>
                </a:lnTo>
                <a:lnTo>
                  <a:pt x="582118" y="2743193"/>
                </a:lnTo>
                <a:lnTo>
                  <a:pt x="941894" y="1695384"/>
                </a:lnTo>
                <a:lnTo>
                  <a:pt x="3" y="104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30" descr="BD06662_"/>
          <p:cNvPicPr/>
          <p:nvPr/>
        </p:nvPicPr>
        <p:blipFill>
          <a:blip r:embed="rId1"/>
          <a:stretch/>
        </p:blipFill>
        <p:spPr>
          <a:xfrm>
            <a:off x="3675240" y="1676520"/>
            <a:ext cx="1793520" cy="1587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032"/>
          <p:cNvSpPr/>
          <p:nvPr/>
        </p:nvSpPr>
        <p:spPr>
          <a:xfrm>
            <a:off x="6172200" y="3429000"/>
            <a:ext cx="838080" cy="9144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33" descr="BS00580_"/>
          <p:cNvPicPr/>
          <p:nvPr/>
        </p:nvPicPr>
        <p:blipFill>
          <a:blip r:embed="rId2"/>
          <a:stretch/>
        </p:blipFill>
        <p:spPr>
          <a:xfrm>
            <a:off x="2590920" y="5334120"/>
            <a:ext cx="1295280" cy="1090440"/>
          </a:xfrm>
          <a:prstGeom prst="rect">
            <a:avLst/>
          </a:prstGeom>
          <a:ln w="0">
            <a:noFill/>
          </a:ln>
        </p:spPr>
      </p:pic>
      <p:sp>
        <p:nvSpPr>
          <p:cNvPr id="150" name="Documents"/>
          <p:cNvSpPr/>
          <p:nvPr/>
        </p:nvSpPr>
        <p:spPr>
          <a:xfrm>
            <a:off x="5562720" y="5029200"/>
            <a:ext cx="914400" cy="1200240"/>
          </a:xfrm>
          <a:custGeom>
            <a:avLst/>
            <a:gdLst>
              <a:gd name="textAreaLeft" fmla="*/ 69480 w 914400"/>
              <a:gd name="textAreaRight" fmla="*/ 699480 w 914400"/>
              <a:gd name="textAreaTop" fmla="*/ 231480 h 1200240"/>
              <a:gd name="textAreaBottom" fmla="*/ 962280 h 120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039"/>
          <p:cNvGrpSpPr/>
          <p:nvPr/>
        </p:nvGrpSpPr>
        <p:grpSpPr>
          <a:xfrm>
            <a:off x="2133720" y="3200400"/>
            <a:ext cx="838080" cy="838080"/>
            <a:chOff x="2133720" y="3200400"/>
            <a:chExt cx="838080" cy="838080"/>
          </a:xfrm>
        </p:grpSpPr>
        <p:sp>
          <p:nvSpPr>
            <p:cNvPr id="152" name="Oval 1037"/>
            <p:cNvSpPr/>
            <p:nvPr/>
          </p:nvSpPr>
          <p:spPr>
            <a:xfrm>
              <a:off x="2133720" y="32004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038"/>
            <p:cNvSpPr/>
            <p:nvPr/>
          </p:nvSpPr>
          <p:spPr>
            <a:xfrm>
              <a:off x="2438280" y="350532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1040"/>
          <p:cNvSpPr/>
          <p:nvPr/>
        </p:nvSpPr>
        <p:spPr>
          <a:xfrm>
            <a:off x="1905120" y="3962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41"/>
          <p:cNvSpPr/>
          <p:nvPr/>
        </p:nvSpPr>
        <p:spPr>
          <a:xfrm>
            <a:off x="5410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42"/>
          <p:cNvSpPr/>
          <p:nvPr/>
        </p:nvSpPr>
        <p:spPr>
          <a:xfrm>
            <a:off x="6400800" y="3092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43"/>
          <p:cNvSpPr/>
          <p:nvPr/>
        </p:nvSpPr>
        <p:spPr>
          <a:xfrm>
            <a:off x="5562720" y="6248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44"/>
          <p:cNvSpPr/>
          <p:nvPr/>
        </p:nvSpPr>
        <p:spPr>
          <a:xfrm>
            <a:off x="2133720" y="6172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9:34:05Z</dcterms:created>
  <dc:creator>Rafa</dc:creator>
  <dc:description/>
  <dc:language>en-US</dc:language>
  <cp:lastModifiedBy>inma</cp:lastModifiedBy>
  <dcterms:modified xsi:type="dcterms:W3CDTF">2017-10-24T17:05:52Z</dcterms:modified>
  <cp:revision>42</cp:revision>
  <dc:subject/>
  <dc:title>LAS NUEVAS TECNOLOGÍAS EN INVESTIGACIÓN DEL MEDIO AMBIENTE</dc:title>
</cp:coreProperties>
</file>